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76C-009C-4544-8560-9382C8F5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ABB-AC3D-45D6-BA88-4BD8B14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0EF-C587-43AE-A617-18E00F0A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D62-DC43-429C-A9A3-EF2D31AF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C0A-FE8B-4553-AF32-8B4332A0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B15-4BBB-4389-95B0-03847E57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140-D869-47FB-BA39-4EAE421C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F0D-74CE-4C99-AA38-F84BA7D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BCF-D929-40A5-BEF8-95BA13AF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856-D015-406E-85F2-CA189B0F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6BB-1743-4851-B649-2A29DADC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FB8-D3A4-4676-85AE-87BF63F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BAF2-AAFB-4AE2-AEAB-6A1A2D20D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4006" t="0" r="0" b="50009"/>
          <a:stretch/>
        </p:blipFill>
        <p:spPr>
          <a:xfrm>
            <a:off x="0" y="0"/>
            <a:ext cx="982800" cy="1066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338120"/>
            <a:ext cx="9144000" cy="551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23377" r="76500" b="51139"/>
          <a:stretch/>
        </p:blipFill>
        <p:spPr>
          <a:xfrm>
            <a:off x="1219320" y="0"/>
            <a:ext cx="84276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0009" r="50009" b="0"/>
          <a:stretch/>
        </p:blipFill>
        <p:spPr>
          <a:xfrm>
            <a:off x="2209680" y="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505320" y="0"/>
            <a:ext cx="10666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382760"/>
            <a:ext cx="9144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23377" r="76500" b="51139"/>
          <a:stretch/>
        </p:blipFill>
        <p:spPr>
          <a:xfrm>
            <a:off x="0" y="0"/>
            <a:ext cx="84312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3:48:20Z</dcterms:created>
  <dc:creator>lucy/laffitte</dc:creator>
  <dc:description/>
  <dc:language>en-US</dc:language>
  <cp:lastModifiedBy>lucy/laffitte</cp:lastModifiedBy>
  <dcterms:modified xsi:type="dcterms:W3CDTF">2011-10-10T02:07:41Z</dcterms:modified>
  <cp:revision>5</cp:revision>
  <dc:subject/>
  <dc:title>PowerPoint Presentation</dc:title>
</cp:coreProperties>
</file>